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860-1CD2-48AE-AFFB-54912DDC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D0C-1CC1-4A1E-8F05-69C967F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904-A8EA-46A4-A0BE-468C3A7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15D-5E15-4887-8CA5-21341072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6D2-81FF-4320-9499-558941BB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F59-E74F-4B91-B946-DD431A3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400-6321-4AD7-BE87-79185C6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37C-CAED-477A-B915-439B1624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FC9-DAF4-449E-8BB3-4C507C57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2C0-7080-42E5-BE46-637B778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926-67FD-4F8F-85C7-989FCF3F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6E6-9C77-47A4-BBB2-9317917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46F-017E-4429-A8FB-131D4902136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ufflon-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pl.wikipedia.org/wiki/Grafika:Dama_dama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pl.wikipedia.org/wiki/Grafika:Kozicewmnichowym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teppe_of_western_Kazakhstan_in_the_early_spring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GoldenEagle-Nov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l.wikipedia.org/wiki/Grafika:Buteo_buteo_5_%28Marek_Szczepanek%29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pl.wikipedia.org/wiki/Grafika:Bubo_bubo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ilz_cerf2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pl.wikipedia.org/wiki/Grafika:Vulpes_vulpes_laying_in_snow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pl.wikipedia.org/wiki/Grafika:Canis_lupus_265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pl.wikipedia.org/wiki/Grafika:Bigbullmoose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jga.org/galerie/Bajkal/index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oose-Gusta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pl.wikipedia.org/wiki/Grafika:Medved_mzoo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e/ed/Polarwolf004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Vulpes_vulpes_laying_in_snow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pl.wikipedia.org/wiki/Grafika:Mountain_Hare_Scotland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pl.wikipedia.org/wiki/Grafika:Knut_IMG_8095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pl.wikipedia.org/wiki/Grafika:20070818-0001-strolling_reindeer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Orangutan_001.jpe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l.wikipedia.org/wiki/Grafika:Gelbbrusta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l.wikipedia.org/wiki/Grafika:Hummingbird_hovering_in_fligh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l.wikipedia.org/wiki/Grafika:Spectacled_Caiman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window.close()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57200" y="1071720"/>
            <a:ext cx="62866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fy krajobrazow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em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360" y="4581360"/>
            <a:ext cx="82296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6804000" y="6093000"/>
            <a:ext cx="246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strefy śródziemnomorskiej nazywana jest także roślinnością twardolistn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w tej strefie jest przystosowana do letniego okresu suszy. Liście drzew i krzewów są skórzaste - lśniące, sztywne, grube i twarde.. Takie liście ma wawrzyn, czyli laur.  Roślinność twardolistna jest wiecznie zielona. Rosną tam: karłowate dęby, oleandry, mirty, jałowce, wawrzyny, wrzośce, pistacje, cytrusy i oliwki. Charakterystycznymi elementami krajobrazu śródziemnomorskiego są pinie i wysmukłe cyprysy oraz dęby korkowe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a są suche i upalne, zimy łagodne i wilgotne. Największe opady deszczu występują od listopada do kwietnia. Nie ma klimatycznej zi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ej strefy: muflony, daniele i koz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60px-Mufflon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24768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364000" y="573408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80000" y="595008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260px-Dama_dama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005360"/>
            <a:ext cx="2476800" cy="26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60px-Kozicewmnichowy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4724280"/>
            <a:ext cx="2692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067280" y="5877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7" descr="Step kazachs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teren równinny pokryty trawą i krzewami, pozbawiony drzew, rzek i jez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obrazie stepowym dominują trawy, czasem wyższe od człowieka. Obok traw rośnie sporo innych roślin zielnych. W kwietniu i w maju rośliny zakwitają i step staje się kolorowy. Jednak już w czerwcu trawy żółkną i wysychają. Latem rośliny wysychają, a jesienią  step brunatnieje i zami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ta są gorące i suche, zimy długie i mroź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antylopy, np. gazele, dzikie konie i osły, pieski preriowe, świstaki. Zyją   tu wilki i stepowe lisy,  a także drapieżne ptaki: orzeł, pustułka, sowa, myszoł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60px-GoldenEagle-No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92640"/>
            <a:ext cx="2476800" cy="225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60px-Buteo_buteo_5_%28Marek_Szczepanek%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581360"/>
            <a:ext cx="247680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00px-Bubo_bub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65300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00360" y="573408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liściast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Picture 7" descr="Grafika:Las mieszany wiosną.jpg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 liścias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ekosystem leśny   z udziałem przede wszystkim drzew  liścias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y liściaste zrzucają liście na zimę.  Najpopularniejsze  gatunki drzew to: buk, dąb, klon, grab, wierzba, topola,  olsza. Obok typowych lasów liściastych występują bory mieszane, czyli lasy z domieszka drzew iglast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ują wyraźne cztery pory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wilk, lis, niedźwiedź, jeleń, łoś, ry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60px-Silz_cerf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508464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60px-Vulpes_vulpes_laying_in_sn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476440" cy="163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Wilk sza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Łopatacz z charakterystyczną brod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076640"/>
            <a:ext cx="1904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08360" y="5734080"/>
            <a:ext cx="14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jg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10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orealne lasy szpil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ą w północnej części Ameryki Północnej, Europy i Azji. Rosną tu głównie: świerk, modrzew, jodła, sosna. W większej części strefy lasów iglastych występuje wieczna zmarzlina.  Grunt  jest bardzo głęboko zamarznięty i tylko latem rozmraża się na głębokość 1 m. Wieczna zmarzlina  uniemożliwia odpływanie wód opadowych, co sprzyja tworzeniu się rozległych obszarów bagie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e tam krótkie, ciepłe lato i długa, mroźna, śnieżna 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wilk, lis, łoś, niedźwied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35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60px-Moose-Gust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60px-Medved_mzo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764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rafika:Polarwolf00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89360"/>
            <a:ext cx="2873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35280" y="5516640"/>
            <a:ext cx="17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7" descr="Grafika:Wrangel Island tundra.jpg"/>
          <p:cNvPicPr/>
          <p:nvPr/>
        </p:nvPicPr>
        <p:blipFill>
          <a:blip r:embed="rId1"/>
          <a:stretch/>
        </p:blipFill>
        <p:spPr>
          <a:xfrm>
            <a:off x="826920" y="765000"/>
            <a:ext cx="7315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leśne zbiorowisko roślinności w zimnym klimacie strefy arktycznej i subarktycznej. Charakteryzuje się bardzo niską pokrywą roślinną, zdominowaną przez mchy i por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ata są krótkie i chłodne, zimy długie i mroźne. Występuje wieczna zmarzl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ją tu: lis i niedźwiedź polarny, sowa polarna i zając biel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60px-Vulpes_vulpes_laying_in_s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22100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60px-Mountain_Hare_Scotla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653000"/>
            <a:ext cx="247644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Knut 24 marca 2007 r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494172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60px-20070818-0001-strolling_reinde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71628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566100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 lodow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10" descr="Pustynia lodowa Antarktyda"/>
          <p:cNvPicPr/>
          <p:nvPr/>
        </p:nvPicPr>
        <p:blipFill>
          <a:blip r:embed="rId1"/>
          <a:stretch/>
        </p:blipFill>
        <p:spPr>
          <a:xfrm>
            <a:off x="1042920" y="333360"/>
            <a:ext cx="6696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efy  rośli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równik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w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usty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asy podzwrotni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asy liści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 lod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obszar wiecznych lodów w strefie polarnej, pozbawiony roślinności i bez stałej lu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charakteryzuje się ujemnymi temperaturami powietrza w ciągu całego roku, opadami śniegu i bardzo silnymi wiatrami. Pory roku wyznaczane są przez dzień polarny i noc polarną. Temperatura: od -10°C w lecie do -50°C w zim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foki, morsy, wieloryby i czasami niedźwiedzie polarne w Arktyce, a pingwiny w Antarktyce. Żyją tu również rybitwy, mewy i albatro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60px-Emperor_penguin"/>
          <p:cNvPicPr/>
          <p:nvPr/>
        </p:nvPicPr>
        <p:blipFill>
          <a:blip r:embed="rId1"/>
          <a:stretch/>
        </p:blipFill>
        <p:spPr>
          <a:xfrm>
            <a:off x="3492360" y="3141720"/>
            <a:ext cx="223056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60px-Walrus"/>
          <p:cNvPicPr/>
          <p:nvPr/>
        </p:nvPicPr>
        <p:blipFill>
          <a:blip r:embed="rId2"/>
          <a:stretch/>
        </p:blipFill>
        <p:spPr>
          <a:xfrm>
            <a:off x="611280" y="4221000"/>
            <a:ext cx="2476440" cy="15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60px-Snowy"/>
          <p:cNvPicPr/>
          <p:nvPr/>
        </p:nvPicPr>
        <p:blipFill>
          <a:blip r:embed="rId3"/>
          <a:stretch/>
        </p:blipFill>
        <p:spPr>
          <a:xfrm>
            <a:off x="6300720" y="371628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627280" y="5805360"/>
            <a:ext cx="37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rów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7" descr="Image:Amazon Rainforest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równikowe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ami deszczow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opikal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żungl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ą to lasy wiecznie zielone. Stanowią około 30% powierzchni wszystkich lasów na świecie. Roślinność rośnie bardzo szybko i jest bardzo bujna (na 1 ha lasu tropikalnego występuje około 200 gatunków drzew, w tym palmy i  drzewiaste paproc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2708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z cały rok panuje wysoka temperatura i padaj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fite deszcze zenit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małpy, krokodyle, liczne gatunki pt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220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ym zbiorowiskiem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namorzyn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260px-Orangutan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292640"/>
            <a:ext cx="247644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60px-Gelbbrusta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989000"/>
            <a:ext cx="24764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60px-Hummingbird_hovering_in_f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365720"/>
            <a:ext cx="2476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260px-Spectacled_Caim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407664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419640" y="580536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wan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8" descr="Grafika:Tarangire-Natpark800600.jpg"/>
          <p:cNvPicPr/>
          <p:nvPr/>
        </p:nvPicPr>
        <p:blipFill>
          <a:blip r:embed="rId1"/>
          <a:stretch/>
        </p:blipFill>
        <p:spPr>
          <a:xfrm>
            <a:off x="684360" y="189000"/>
            <a:ext cx="7489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wan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to trawiasta formacja strefy międzyzwrotnik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minują tu kępki sucholubnych traw, jak  trawa słoniowa, dochodząca do 5 m wysokości. Na niektórych sawannach rosną nieliczne drzewa, np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a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oba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cz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lm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zwykle zrzucają liście w porze suchej. Większe skupiska występują tylko nad ciekami wodnymi tworząc tzw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galeriow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gorący z wyraźnie zaznaczoną porą suchą oraz deszcz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lwy, żyrafy, słonie, antyl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6165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pis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re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rafika:Crocuta-hejda.jpg"/>
          <p:cNvPicPr/>
          <p:nvPr/>
        </p:nvPicPr>
        <p:blipFill>
          <a:blip r:embed="rId4"/>
          <a:stretch/>
        </p:blipFill>
        <p:spPr>
          <a:xfrm>
            <a:off x="6948360" y="3500280"/>
            <a:ext cx="2016360" cy="15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rafika:Namibie Etosha Lion 01.JPG"/>
          <p:cNvPicPr/>
          <p:nvPr/>
        </p:nvPicPr>
        <p:blipFill>
          <a:blip r:embed="rId5"/>
          <a:stretch/>
        </p:blipFill>
        <p:spPr>
          <a:xfrm>
            <a:off x="2411280" y="3716280"/>
            <a:ext cx="2266920" cy="169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rafika:Elephant side-view Kruger.jpg"/>
          <p:cNvPicPr/>
          <p:nvPr/>
        </p:nvPicPr>
        <p:blipFill>
          <a:blip r:embed="rId6"/>
          <a:stretch/>
        </p:blipFill>
        <p:spPr>
          <a:xfrm>
            <a:off x="468360" y="487044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7"/>
          <a:stretch/>
        </p:blipFill>
        <p:spPr>
          <a:xfrm>
            <a:off x="4716360" y="465444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587700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Libyen-sandwueste1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teren pozbawiony zwartej szaty roślinnej na skutek małej ilości opad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jest uboga, ale wiele roślin przystosowało się do skrajnych warunków klimatycznych poprzez skrócenie okresu wegetacyjnego na okres pory deszczowej, gromadząc wodę (tzw. sukulenty i efemerydy). Roślinność taka nie zajmuje jednak więcej niż 10% powierzchni. Większe płaty roślinności występują w oaz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dzaje pustyń: piaszczysta, żwirowa, skalista. Występują tu wysokie dobowe amplitudy temperatury powietrza od 0°C nocą do +50°C w dz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lis fenek, skorpiony, wielbłą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fika:Camel 111.jpg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22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:Black scorpion.jpg"/>
          <p:cNvPicPr/>
          <p:nvPr/>
        </p:nvPicPr>
        <p:blipFill>
          <a:blip r:embed="rId2"/>
          <a:stretch/>
        </p:blipFill>
        <p:spPr>
          <a:xfrm>
            <a:off x="395280" y="429264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fika:TA ZOO orna Pict0224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08000" y="5445000"/>
            <a:ext cx="541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podzwrot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Picture 7" descr="sawanna w Austral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49360"/>
            <a:ext cx="666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7:54:24Z</dcterms:created>
  <dc:creator>kurs</dc:creator>
  <dc:description/>
  <dc:language>en-US</dc:language>
  <cp:lastModifiedBy>q</cp:lastModifiedBy>
  <dcterms:modified xsi:type="dcterms:W3CDTF">2013-03-15T15:44:04Z</dcterms:modified>
  <cp:revision>9</cp:revision>
  <dc:subject/>
  <dc:title>Biomy Ziemi</dc:title>
</cp:coreProperties>
</file>